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1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38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Click to move the slide</a:t>
            </a:r>
            <a:endParaRPr b="0" lang="en-US" sz="32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008FF-E413-4819-BD08-A0B39188838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CITS (Undertakings for Collective Investment in Transferable Securities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88"/>
              </a:spcBef>
              <a:spcAft>
                <a:spcPts val="3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Giovannini Reports’ three spheres of difficulties within the post trading sector: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88"/>
              </a:spcBef>
              <a:spcAft>
                <a:spcPts val="3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technical requirements and industry practices;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88"/>
              </a:spcBef>
              <a:spcAft>
                <a:spcPts val="3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taxation;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88"/>
              </a:spcBef>
              <a:spcAft>
                <a:spcPts val="3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legal certainty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learing and Settlement Advisory and Monitoring Expert Group ("CESAME"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Monitoring Group meets its public interest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by supporting th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elopment of high quality international standards for auditing, assurance, ethics and education for professional accountants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, and by exchanging views relating to international audit quality and to regulatory and market development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ing an impact on auditing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This project is the third step in the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implification of accounting rules for SMEs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and other companies in the scope of the Fourth and Seventh Company Law Directives (“Accounting Directives”), which began with a fast-track proposal in 2008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CD11E-D1BD-4873-8F49-3107F53E5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4D8B9-D84D-40B2-B233-5C26AE56D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5FF0A-12C7-464C-91E4-DA9E2FF84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7E9F8-37D4-4300-B766-D8C0B954F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E3556-A8A2-4792-8496-9B8A52A92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AEFC9-485F-44CE-9A92-4B2BD2398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F5C5B-6A2B-434E-ADB8-3FBDF2E62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36717-B958-42BF-AE19-20A624C40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66CFA-6AC0-4CBB-A78A-4FDBE1526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2894040" y="259920"/>
            <a:ext cx="5710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9A21E-2227-474E-9273-6173EB0FE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FA52E-094C-44CD-8CE2-612BD7A91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1114B-326F-46F4-9DA6-C7F14A882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9B3CA-4C32-4B6F-BFA3-8DDF81F43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961FD-C87A-4721-AC9F-C0FE03C0F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159FF-82A8-4C5A-B381-FCBBA215C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0CAA7-8460-4631-A98C-E063072AC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068EA-6686-4935-9C81-4152D652D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6727C-4950-4A91-835B-DDABDBBC5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8C643-23EB-4E61-9201-B8230902D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9CACE-756B-4FA6-A4C1-775BEC452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894040" y="259920"/>
            <a:ext cx="5710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CBC18-CCEA-48B0-AF06-5268A912F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C54CD-C897-4433-9E23-1ADCF6FB0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51543-AE1A-4342-A606-B0EFBEAE6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FE70E-9AFA-489B-8F6F-F7AFF5FB6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Click to edit the outline text format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6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econd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2" marL="11430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Third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3" marL="16002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Four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4" marL="20574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Fif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5" marL="2057400" indent="-228600">
              <a:spcBef>
                <a:spcPts val="624"/>
              </a:spcBef>
              <a:buClr>
                <a:srgbClr val="005ca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ix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6" marL="2057400" indent="-228600">
              <a:spcBef>
                <a:spcPts val="624"/>
              </a:spcBef>
              <a:buClr>
                <a:srgbClr val="005ca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even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68000" y="6381720"/>
            <a:ext cx="213372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66cc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cc"/>
                </a:solidFill>
                <a:latin typeface="Times New Roman"/>
              </a:rPr>
              <a:t>&lt;footer&gt;</a:t>
            </a:r>
            <a:r>
              <a:rPr b="0" lang="en-US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901B5-4358-482C-BEEC-9A46F9DA334E}" type="slidenum">
              <a:rPr b="0" lang="en-US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 flipV="1">
            <a:off x="468360" y="1557360"/>
            <a:ext cx="0" cy="530064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68360" y="1557360"/>
            <a:ext cx="4174920" cy="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0" y="189000"/>
            <a:ext cx="2943360" cy="130500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Click to edit the title text format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66cc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cc"/>
                </a:solidFill>
                <a:latin typeface="Times New Roman"/>
              </a:rPr>
              <a:t>&lt;footer&gt;</a:t>
            </a:r>
            <a:r>
              <a:rPr b="0" lang="en-US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2BBEF-4EB0-4AA6-AE8E-C9E86626C372}" type="slidenum">
              <a:rPr b="0" lang="en-US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468360" y="1557360"/>
            <a:ext cx="0" cy="530064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1557360"/>
            <a:ext cx="4174920" cy="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0" y="189000"/>
            <a:ext cx="2943360" cy="1305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Click to edit the outline text format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cc"/>
                </a:solidFill>
                <a:latin typeface="Times New Roman"/>
              </a:rPr>
              <a:t>Second Outline Level</a:t>
            </a: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  <a:p>
            <a:pPr lvl="2" marL="914400" algn="ctr">
              <a:spcBef>
                <a:spcPts val="400"/>
              </a:spcBef>
              <a:buClr>
                <a:srgbClr val="0066cc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cc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0066cc"/>
              </a:solidFill>
              <a:latin typeface="Times New Roman"/>
            </a:endParaRPr>
          </a:p>
          <a:p>
            <a:pPr lvl="3" marL="1371600" algn="ctr">
              <a:spcBef>
                <a:spcPts val="349"/>
              </a:spcBef>
              <a:buClr>
                <a:srgbClr val="0066cc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Fourth Outline Level</a:t>
            </a:r>
            <a:endParaRPr b="0" lang="en-US" sz="1400" spc="-1" strike="noStrike">
              <a:solidFill>
                <a:srgbClr val="0066cc"/>
              </a:solidFill>
              <a:latin typeface="Times New Roman"/>
            </a:endParaRPr>
          </a:p>
          <a:p>
            <a:pPr lvl="4" marL="1828800" algn="ctr">
              <a:spcBef>
                <a:spcPts val="300"/>
              </a:spcBef>
              <a:buClr>
                <a:srgbClr val="0066cc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cc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66cc"/>
              </a:solidFill>
              <a:latin typeface="Times New Roman"/>
            </a:endParaRPr>
          </a:p>
          <a:p>
            <a:pPr lvl="5" marL="1828800">
              <a:spcBef>
                <a:spcPts val="300"/>
              </a:spcBef>
              <a:buClr>
                <a:srgbClr val="005ca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cc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66cc"/>
              </a:solidFill>
              <a:latin typeface="Times New Roman"/>
            </a:endParaRPr>
          </a:p>
          <a:p>
            <a:pPr lvl="6" marL="1828800">
              <a:spcBef>
                <a:spcPts val="300"/>
              </a:spcBef>
              <a:buClr>
                <a:srgbClr val="005ca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cc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ahoma"/>
                <a:ea typeface="Times New Roman"/>
              </a:rPr>
              <a:t>Latest developments in the EU legislation</a:t>
            </a:r>
            <a:br>
              <a:rPr sz="2800"/>
            </a:br>
            <a:r>
              <a:rPr b="0" lang="en-GB" sz="2800" spc="-1" strike="noStrike">
                <a:solidFill>
                  <a:srgbClr val="0066cc"/>
                </a:solidFill>
                <a:latin typeface="Tahoma"/>
                <a:ea typeface="Times New Roman"/>
              </a:rPr>
              <a:t>on financial service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Viktorija Proskurovska, EBF Adviser</a:t>
            </a:r>
            <a:br>
              <a:rPr sz="2500"/>
            </a:b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17th edition</a:t>
            </a:r>
            <a:br>
              <a:rPr sz="2500"/>
            </a:b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Monaco, 18 June 2009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Financial Supervision in Europe </a:t>
            </a:r>
            <a:br>
              <a:rPr sz="3000"/>
            </a:b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(cont-d)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27-May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 published a Communication on financial supervision in Europe. Proposed reforms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Creation of a new </a:t>
            </a:r>
            <a:r>
              <a:rPr b="1" lang="en-GB" sz="2400" spc="-1" strike="noStrike">
                <a:solidFill>
                  <a:srgbClr val="0066cc"/>
                </a:solidFill>
                <a:latin typeface="Times New Roman"/>
              </a:rPr>
              <a:t>European System of Financial Supervisors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 composed of new </a:t>
            </a:r>
            <a:r>
              <a:rPr b="1" lang="en-GB" sz="2400" spc="-1" strike="noStrike">
                <a:solidFill>
                  <a:srgbClr val="0066cc"/>
                </a:solidFill>
                <a:latin typeface="Times New Roman"/>
              </a:rPr>
              <a:t>European Supervisory Authorities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, and 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Creation of a </a:t>
            </a:r>
            <a:r>
              <a:rPr b="1" lang="en-GB" sz="2400" spc="-1" strike="noStrike">
                <a:solidFill>
                  <a:srgbClr val="0066cc"/>
                </a:solidFill>
                <a:latin typeface="Times New Roman"/>
              </a:rPr>
              <a:t>European Systemic Risk Council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Comments invited by 15-Jul-09.</a:t>
            </a:r>
            <a:br>
              <a:rPr sz="2800"/>
            </a:b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Legislative proposals are expected in autumn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84553-48C1-4D41-99BE-479ACB0DF11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Clarification of the UCITS </a:t>
            </a:r>
            <a:br>
              <a:rPr sz="3000"/>
            </a:br>
            <a:r>
              <a:rPr b="1" lang="en" sz="3000" spc="-1" strike="noStrike">
                <a:solidFill>
                  <a:srgbClr val="0066cc"/>
                </a:solidFill>
                <a:latin typeface="Times New Roman"/>
              </a:rPr>
              <a:t>Regulations Regime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28-May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 initiated </a:t>
            </a:r>
            <a:r>
              <a:rPr b="1" lang="en-US" sz="2800" spc="-1" strike="noStrike">
                <a:solidFill>
                  <a:srgbClr val="0066cc"/>
                </a:solidFill>
                <a:latin typeface="Times New Roman"/>
              </a:rPr>
              <a:t>clarification of the UCITS regulations regime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, in particular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as regards the liability of depositories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Consultation will be launched before the end-Jun-09 to deal with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inconsistencies in the application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 of the UCITS directive across MSs that lead to an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unlevel playing field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Provisions of the Directive on Alternative Investment Fund Managers (AIFM) are suggested to be extended to UCITS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FCE57-3549-4B0A-85A9-C062F320F9F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EU Framework for Managers of Alternative Investment Funds</a:t>
            </a: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29-Apr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EC proposed a Directive on Alternative Investment Fund Managers (AIFM)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Aim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: to create a comprehensive &amp; effective  regulatory and supervisory framework for AIFM in the EU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The proposed Directive, </a:t>
            </a:r>
            <a:r>
              <a:rPr b="0" i="1" lang="en-GB" sz="2800" spc="-1" strike="noStrike">
                <a:solidFill>
                  <a:srgbClr val="0066cc"/>
                </a:solidFill>
                <a:latin typeface="Times New Roman"/>
              </a:rPr>
              <a:t>inter alia,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will: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550"/>
              </a:spcBef>
              <a:spcAft>
                <a:spcPts val="550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66cc"/>
                </a:solidFill>
                <a:latin typeface="Times New Roman"/>
              </a:rPr>
              <a:t>require all AIFM be subject to</a:t>
            </a:r>
            <a:r>
              <a:rPr b="1" lang="en-GB" sz="2200" spc="-1" strike="noStrike">
                <a:solidFill>
                  <a:srgbClr val="0066cc"/>
                </a:solidFill>
                <a:latin typeface="Times New Roman"/>
              </a:rPr>
              <a:t> </a:t>
            </a:r>
            <a:r>
              <a:rPr b="0" lang="en-GB" sz="2200" spc="-1" strike="noStrike">
                <a:solidFill>
                  <a:srgbClr val="0066cc"/>
                </a:solidFill>
                <a:latin typeface="Times New Roman"/>
              </a:rPr>
              <a:t>harmonised regulatory standards; </a:t>
            </a: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550"/>
              </a:spcBef>
              <a:spcAft>
                <a:spcPts val="550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66cc"/>
                </a:solidFill>
                <a:latin typeface="Times New Roman"/>
              </a:rPr>
              <a:t>enhance transparency of the activities;</a:t>
            </a: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550"/>
              </a:spcBef>
              <a:spcAft>
                <a:spcPts val="550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66cc"/>
                </a:solidFill>
                <a:latin typeface="Times New Roman"/>
              </a:rPr>
              <a:t>enable MSs to improve the macro-prudential oversight;</a:t>
            </a: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550"/>
              </a:spcBef>
              <a:spcAft>
                <a:spcPts val="550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66cc"/>
                </a:solidFill>
                <a:latin typeface="Times New Roman"/>
              </a:rPr>
              <a:t>overcome gaps and inconsistencies in regulatory frameworks at national level.</a:t>
            </a: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1F575-82C2-4D2A-90E3-1BD3C8849D4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411280" y="259920"/>
            <a:ext cx="64087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Communication on Packaged Retail Investment Products</a:t>
            </a: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29-Apr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 published conclusions of the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Communication on Packaged Retail Investment Products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cc"/>
                </a:solidFill>
                <a:latin typeface="Times New Roman"/>
              </a:rPr>
              <a:t>Conclusions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: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product information requirements and rules on product sales need to be improved and made more coherent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EC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proposes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a new, horizontal legislative approach for product disclosures and sales processes for all packaged retail investment products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EC works on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legislative proposals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; to report by the end of 2009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6AA47-64FF-4956-86F9-76803255CEF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Consultation on Hedge Funds</a:t>
            </a: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12-Mar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 finalised a public Consultation on Hedge Funds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Main areas covered: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ystemic risks;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Market integrity and efficiency;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Risk management;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Transparency towards investors and investor protection.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26&amp;27-Feb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 organised a 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High-Level Conference on Private Equity and Hedge Funds</a:t>
            </a:r>
            <a:r>
              <a:rPr b="1" lang="en-GB" sz="2500" spc="-1" strike="noStrike">
                <a:solidFill>
                  <a:srgbClr val="0066cc"/>
                </a:solidFill>
                <a:latin typeface="Times New Roman"/>
              </a:rPr>
              <a:t> 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as a final step of the consultation process.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D8F41-1D77-4665-B795-EB49A08DDEF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cc"/>
                </a:solidFill>
                <a:latin typeface="Times New Roman"/>
              </a:rPr>
              <a:t>Investor Compensation Schemes Directive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9-Feb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 launched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a call for evidence on the review of the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application of the Investor Compensation Schemes Directive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The call addressed, </a:t>
            </a:r>
            <a:r>
              <a:rPr b="0" i="1" lang="en-US" sz="2800" spc="-1" strike="noStrike">
                <a:solidFill>
                  <a:srgbClr val="0066cc"/>
                </a:solidFill>
                <a:latin typeface="Times New Roman"/>
              </a:rPr>
              <a:t>inter alia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683280" indent="-26280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Scope of the directive;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lvl="1" marL="683280" indent="-26280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amount of compensation and 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funding of the compensation schemes; 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lvl="1" marL="683280" indent="-26280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technical aspects hampering efficient &amp; timely functioning of the schemes;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lvl="1" marL="683280" indent="-26280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treatment of money market funds.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Consultation closed on 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8-Apr-09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2B7D9-CAB7-4B98-963C-4F7C269E202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Retail Market </a:t>
            </a:r>
            <a:br>
              <a:rPr sz="3000"/>
            </a:b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Monitoring Exercise</a:t>
            </a: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8-Apr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 launched a questionnaire aiming to monitor the EU Retail Market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It will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collect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qualitative information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 about problems arising from current national regulatory conditions that apply to retail services across the MSs, and the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efficiency of these rules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 in meeting their underlying public interest objectives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Responses invited by 5-Jun-09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The questionnaire will feed into the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Retail Market Monitoring report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, to be published before Nov-09.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F2BAD-8AEE-46FA-B809-E494916DAE1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Access to a Basic Bank Account</a:t>
            </a: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6-Feb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EC launched a public Consultation on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Financial inclusion: Ensuring access to a basic bank account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The Consultative document, </a:t>
            </a:r>
            <a:r>
              <a:rPr b="0" i="1" lang="en-GB" sz="2800" spc="-1" strike="noStrike">
                <a:solidFill>
                  <a:srgbClr val="0066cc"/>
                </a:solidFill>
                <a:latin typeface="Times New Roman"/>
              </a:rPr>
              <a:t>inter alia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describes the levels, causes and consequences of financial exclusion in the EU. 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presents various policy solutions to address financial exclusion that exist in some MS, 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39480" indent="0">
              <a:spcBef>
                <a:spcPts val="649"/>
              </a:spcBef>
              <a:spcAft>
                <a:spcPts val="6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600" spc="-1" strike="noStrike">
                <a:solidFill>
                  <a:srgbClr val="0066cc"/>
                </a:solidFill>
                <a:latin typeface="Times New Roman"/>
              </a:rPr>
              <a:t>Consultation closed on </a:t>
            </a:r>
            <a:r>
              <a:rPr b="0" lang="en-US" sz="2600" spc="-1" strike="noStrike">
                <a:solidFill>
                  <a:srgbClr val="0066cc"/>
                </a:solidFill>
                <a:latin typeface="Times New Roman"/>
              </a:rPr>
              <a:t>6-Apr-09.</a:t>
            </a:r>
            <a:endParaRPr b="0" lang="en-US" sz="26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75ECF-3A32-4149-979E-65F80FC3CB4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Alternative Dispute Resolution</a:t>
            </a: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11-Dec-08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 launched a Consultation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on Alternative Dispute Resolution (ADR) in the area of financial services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The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objective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was to seek views on how ADR schemes in the area of financial services, providing consumers with individual redress, could be further improved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Consultation closed on 27-Feb-09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AB6B3-2D15-4D51-BAED-61D35D382C5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Regulation of </a:t>
            </a:r>
            <a:br>
              <a:rPr sz="3000"/>
            </a:b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‘Non-Credit' Institutions</a:t>
            </a: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2-Dec-08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 published a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study that shows varying national approach to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regulation of 'non-credit' institutions in mortgage markets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It shows that in the majority of MS, lenders operating outside the EU legal framework for credit institutions are regulated and supervised by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national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 authorities, and that their national market share is small compared with that of fully-fledged credit institutions.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Comments on the study were invited by 28-Feb-09.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23D2C-D657-4C80-B772-E0AEBCFB61D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38 Recent Developments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Financial Services and Retail Banking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-  20 -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Financial Markets 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-  11 -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Accounting and Auditing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-    7 -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1F052-C533-4362-B552-ACC146B317D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New Industry Rules on</a:t>
            </a:r>
            <a:br>
              <a:rPr sz="3000"/>
            </a:b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 Account Switching</a:t>
            </a: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1-Dec-08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EC welcomed the European Banking Industry Committee's adoption of a set of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Common Principles for Bank Account Switching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The Principles clarify the roles of the ‘new’ bank and the ‘old’ bank in situation when consumer wishes to change bank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The Principles will apply in each MS as of 1-Nov-09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E5203-F41F-4670-B0EA-7BD863B0944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5cad"/>
                </a:solidFill>
                <a:latin typeface="Times New Roman"/>
              </a:rPr>
              <a:t>Financial Markets </a:t>
            </a:r>
            <a:endParaRPr b="0" lang="en-US" sz="3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3800" spc="-1" strike="noStrike">
                <a:solidFill>
                  <a:srgbClr val="808080"/>
                </a:solidFill>
                <a:latin typeface="Times New Roman"/>
              </a:rPr>
              <a:t>- 11 items -</a:t>
            </a:r>
            <a:endParaRPr b="0" lang="en-US" sz="3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785DE-84B5-434D-92AC-F761C18EE9C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Directors' Remuneration</a:t>
            </a:r>
            <a:r>
              <a:rPr b="0" lang="ru-RU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29-Apr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EC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adopted a Recommendation on the regime for the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remuneration of directors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 of listed companies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The new Recommendation completes the previous ones by specifying certain aspects of: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the </a:t>
            </a:r>
            <a:r>
              <a:rPr b="1" lang="en-GB" sz="2500" spc="-1" strike="noStrike">
                <a:solidFill>
                  <a:srgbClr val="0066cc"/>
                </a:solidFill>
                <a:latin typeface="Times New Roman"/>
              </a:rPr>
              <a:t>structure 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of directors’ remuneration</a:t>
            </a:r>
            <a:r>
              <a:rPr b="1" lang="en-GB" sz="2500" spc="-1" strike="noStrike">
                <a:solidFill>
                  <a:srgbClr val="0066cc"/>
                </a:solidFill>
                <a:latin typeface="Times New Roman"/>
              </a:rPr>
              <a:t>, 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and 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the </a:t>
            </a:r>
            <a:r>
              <a:rPr b="1" lang="en-GB" sz="2500" spc="-1" strike="noStrike">
                <a:solidFill>
                  <a:srgbClr val="0066cc"/>
                </a:solidFill>
                <a:latin typeface="Times New Roman"/>
              </a:rPr>
              <a:t>process 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of determining directors’ remuneration, including shareholder supervision.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EC will re-examine the recommendations in one year’s time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281D0-0FC2-4C12-ACF1-15A2EFAABFD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339640" y="259920"/>
            <a:ext cx="655308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Remuneration of Risk-Taking Staff </a:t>
            </a:r>
            <a:br>
              <a:rPr sz="3000"/>
            </a:b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in Financial Institutions</a:t>
            </a:r>
            <a:r>
              <a:rPr b="0" lang="ru-RU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29-Apr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EC adopted a Recommendation on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remuneration of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risk-taking staff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 in the financial services sector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It focuses on four areas of remuneration policy: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13160" indent="-27432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structure of pay (link back to risk-management), 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13160" indent="-27432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Governance (internal transparency, clarity, documented), 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13160" indent="-27432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disclosure (to stakeholders), 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13160" indent="-27432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Supervision.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Legislative proposals will follow,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bringing remuneration schemes within the scope of prudential oversight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A39A0-D9E9-4660-8407-0201DCE2E46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European Foundation Statute</a:t>
            </a:r>
            <a:r>
              <a:rPr b="0" lang="ru-RU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16-Feb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 launched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public Consultation on the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difficulties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foundations face when operating cross-border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Should the outcome be in favour of European Foundation Statue, the aim would be to use a single legal form instead of up to 27 national ones. 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European Foundation would be parallel to the national legal forms and its use would be optional.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Consultation closed on 15-May-09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06E20-9ABF-4A69-BEDD-7AA2903631B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Regulation on </a:t>
            </a:r>
            <a:br>
              <a:rPr sz="3000"/>
            </a:b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Credit Rating Agencies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23-Apr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P and Council approved the proposal on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proposed Regulation on Credit Rating Agencies (CRA’s)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CRA’s will be expected to comply with strict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standards of integrity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,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quality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 and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transparency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 and will be subject to ongoing supervision of the Committee of European Securities Regulators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Regulation proposes a set of 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rigorous</a:t>
            </a:r>
            <a:r>
              <a:rPr b="1" lang="en-US" sz="2800" spc="-1" strike="noStrike">
                <a:solidFill>
                  <a:srgbClr val="0066cc"/>
                </a:solidFill>
                <a:latin typeface="Times New Roman"/>
              </a:rPr>
              <a:t> rules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 and an effective </a:t>
            </a:r>
            <a:r>
              <a:rPr b="1" lang="en-US" sz="2800" spc="-1" strike="noStrike">
                <a:solidFill>
                  <a:srgbClr val="0066cc"/>
                </a:solidFill>
                <a:latin typeface="Times New Roman"/>
              </a:rPr>
              <a:t>surveillance regime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,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whereby regulators will supervise credit rating agencies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91E2C-3FC4-4846-A343-14F6333AA76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Review of </a:t>
            </a:r>
            <a:br>
              <a:rPr sz="3000"/>
            </a:b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Market Abuse Directive</a:t>
            </a:r>
            <a:r>
              <a:rPr b="0" lang="ru-RU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20-Apr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 launched a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call for evidence on its review of the application of the Market Abuse Directive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EC was reviewing certain elements, </a:t>
            </a:r>
            <a:r>
              <a:rPr b="0" i="1" lang="en-GB" sz="2800" spc="-1" strike="noStrike">
                <a:solidFill>
                  <a:srgbClr val="0066cc"/>
                </a:solidFill>
                <a:latin typeface="Times New Roman"/>
              </a:rPr>
              <a:t>inter alia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The scope of the markets and financial instruments;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The ability of listed issuers to delay disclosure of inside information;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Disclosure of inside information by issuers of commodity derivatives.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Consultation closed on 10-Jun-09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FE864-FE54-47FE-A471-43877F56E65B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New Legal Framework for Intermediated Securities</a:t>
            </a:r>
            <a:r>
              <a:rPr b="0" lang="ru-RU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20-Apr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EC launched a Consultation on the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harmonisation of the legal framework for securities holding and transactions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by the end of 2009, EC intends to introduce a legislative proposal to: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increase legal certainty &amp; efficiency of securities holding; 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improve protection of investors' rights.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75"/>
              </a:spcBef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Consultation closed on 11-Jun-09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C9C25-8777-4B1E-B9E7-B29DA2A1CC74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Harmonisation of </a:t>
            </a:r>
            <a:br>
              <a:rPr sz="3000"/>
            </a:b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Securities Law</a:t>
            </a:r>
            <a:r>
              <a:rPr b="0" lang="ru-RU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16-Apr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 launched a consultation on </a:t>
            </a:r>
            <a:r>
              <a:rPr b="1" lang="en-US" sz="2800" spc="-1" strike="noStrike">
                <a:solidFill>
                  <a:srgbClr val="0066cc"/>
                </a:solidFill>
                <a:latin typeface="Times New Roman"/>
              </a:rPr>
              <a:t>harmonisation of Securities Law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, with relation to the three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Giovannini barriers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The addressed questions, </a:t>
            </a:r>
            <a:r>
              <a:rPr b="0" i="1" lang="en-GB" sz="2800" spc="-1" strike="noStrike">
                <a:solidFill>
                  <a:srgbClr val="0066cc"/>
                </a:solidFill>
                <a:latin typeface="Times New Roman"/>
              </a:rPr>
              <a:t>inter alia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, were: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holding and disposition of securities held in securities accounts;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exercise of investor's rights flowing from securities through a "chain" of intermediaries, in particular in cross-border situations;</a:t>
            </a:r>
            <a:r>
              <a:rPr b="0" lang="ru-RU" sz="24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Consultation closed on 11-Jun-09. The EC will make a legislative proposal by the end-2009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14907-0630-4B01-A691-CF8317FFBCFB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Harmonised Solutions to </a:t>
            </a:r>
            <a:br>
              <a:rPr sz="3000"/>
            </a:b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Cross-Border Barriers</a:t>
            </a:r>
            <a:r>
              <a:rPr b="0" lang="ru-RU" sz="26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9-Dec-08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’s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Clearing and Settlement Advisory and Monitoring Expert Group issued a report on removing industry-related barriers to the cross-border clearing and settlement of securities transactions.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The report gives an overview of: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work by the industry to dismantle the six industry-related "Giovannini Barriers" to post-trading; 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the state of play on 9 such Barriers attributed to the public sector;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other pertinent topics related to post-trading.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FC09D-D764-4974-B703-4AB254551054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5cad"/>
                </a:solidFill>
                <a:latin typeface="Times New Roman"/>
              </a:rPr>
              <a:t>Financial Services and </a:t>
            </a:r>
            <a:br>
              <a:rPr sz="3800"/>
            </a:br>
            <a:r>
              <a:rPr b="0" lang="en-US" sz="3800" spc="-1" strike="noStrike">
                <a:solidFill>
                  <a:srgbClr val="005cad"/>
                </a:solidFill>
                <a:latin typeface="Times New Roman"/>
              </a:rPr>
              <a:t>Retail Banking</a:t>
            </a:r>
            <a:endParaRPr b="0" lang="en-US" sz="3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3800" spc="-1" strike="noStrike">
                <a:solidFill>
                  <a:srgbClr val="808080"/>
                </a:solidFill>
                <a:latin typeface="Times New Roman"/>
              </a:rPr>
              <a:t>- 20 items -</a:t>
            </a:r>
            <a:endParaRPr b="0" lang="en-US" sz="3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40172-DE86-4CA2-ABC1-13F96CF6CB1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State Aid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26-Feb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provided guidance on the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treatment of asset relief measures by MSs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EC guidance provides: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methodologies of valuation of the impaired assets, 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the necessary remuneration of the State for the asset relief and the procedural steps that will be followed; 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the criteria that will be used to evaluate the State aid given to the banks.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D3AAA-DFDC-444E-BC91-61607347CCB0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Central Counterparty Clearing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19-Feb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International Swaps and Derivatives Association and the European Banking Federation have committed to the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use of Central Counterparty Clearing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(CCP)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 for Credit Default Swaps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 (CDS) in the European Union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The signatories committed to cooperating with all relevant bodies in the financial industry to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establish the EU-based central clearing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 for eligible EU contracts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by end-Jul-09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B8CCB-AA3D-478F-A526-ED35379B61C2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European Action Plan on </a:t>
            </a:r>
            <a:br>
              <a:rPr sz="3000"/>
            </a:b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e-Signatures and e-Identification</a:t>
            </a:r>
            <a:r>
              <a:rPr b="0" lang="ru-RU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2-Dec-08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adopted the Action Plan on e-signatures and e-identification to facilitate the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provision of cross-border public services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 in the Single Market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Reasons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 for the Action Plan: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Public authorities offer increasingly more e-services, 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Their implementation is national-oriented, 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It creates e-problems for the EU Single Market,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MSs run the risk of not complying with Services Directive and the Public Procurement Directives.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BD8FC-1EAF-4C4E-979E-E4EE9CCA258D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5cad"/>
                </a:solidFill>
                <a:latin typeface="Times New Roman"/>
              </a:rPr>
              <a:t>Accounting and Auditing</a:t>
            </a:r>
            <a:endParaRPr b="0" lang="en-US" sz="3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3800" spc="-1" strike="noStrike">
                <a:solidFill>
                  <a:srgbClr val="808080"/>
                </a:solidFill>
                <a:latin typeface="Times New Roman"/>
              </a:rPr>
              <a:t>- 7 items -</a:t>
            </a:r>
            <a:endParaRPr b="0" lang="en-US" sz="3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E461D-A26C-4819-9FF3-EF92BFF7BBCB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Monitoring Group adopts </a:t>
            </a:r>
            <a:br>
              <a:rPr sz="3000"/>
            </a:b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a Charter</a:t>
            </a: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19-May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Monitoring Group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, a group of international regulatory bodies and related organisations committed to advancing the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 public interest in areas related to international audit quality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, announces the adoption of a formal Charter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Charter confirms the formal arrangements agreed upon by participating members and observers to meet their objective.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16038-0D5C-4C07-9CB0-B26CE6201CDF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International Auditing Conference with Third Countries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9-Dec-08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hosted a high-level </a:t>
            </a:r>
            <a:r>
              <a:rPr b="0" i="1" lang="en-GB" sz="2800" spc="-1" strike="noStrike">
                <a:solidFill>
                  <a:srgbClr val="0066cc"/>
                </a:solidFill>
                <a:latin typeface="Times New Roman"/>
              </a:rPr>
              <a:t>Auditing Conference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in Brussels on 10-Dec-08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The Conference focused on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how to enhance international cooperation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 and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promote auditing public oversight systems in third countries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9AF22-DC28-4B82-85F8-380B44593612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Standards Advice Review Group</a:t>
            </a:r>
            <a:r>
              <a:rPr b="0" lang="ru-RU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19-May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appointed three new members of the Standards Advice Review Group (SARG)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SARG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task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is to advise EC on the endorsement process of: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International Financial Reporting Standards (IFRS), and 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International Financial Reporting Committee Interpretations (IFRICs). 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	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7CEE5-0545-4F3D-9A82-8D968035CC42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Financial Reporting </a:t>
            </a:r>
            <a:br>
              <a:rPr sz="3000"/>
            </a:b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in a Changing World</a:t>
            </a:r>
            <a:r>
              <a:rPr b="0" lang="ru-RU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7&amp;8-May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EC hosted a Conference on </a:t>
            </a:r>
            <a:r>
              <a:rPr b="0" i="1" lang="en-GB" sz="2800" spc="-1" strike="noStrike">
                <a:solidFill>
                  <a:srgbClr val="0066cc"/>
                </a:solidFill>
                <a:latin typeface="Times New Roman"/>
              </a:rPr>
              <a:t>Financial Reporting in a Changing World,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 in Brussels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The conference addressed: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66cc"/>
                </a:solidFill>
                <a:latin typeface="Times New Roman"/>
              </a:rPr>
              <a:t>policy issues</a:t>
            </a:r>
            <a:r>
              <a:rPr b="0" lang="en-GB" sz="2600" spc="-1" strike="noStrike">
                <a:solidFill>
                  <a:srgbClr val="0066cc"/>
                </a:solidFill>
                <a:latin typeface="Times New Roman"/>
              </a:rPr>
              <a:t> in financial reporting; </a:t>
            </a:r>
            <a:endParaRPr b="0" lang="en-US" sz="26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66cc"/>
                </a:solidFill>
                <a:latin typeface="Times New Roman"/>
              </a:rPr>
              <a:t>accounting issues</a:t>
            </a:r>
            <a:r>
              <a:rPr b="0" lang="en-GB" sz="2600" spc="-1" strike="noStrike">
                <a:solidFill>
                  <a:srgbClr val="0066cc"/>
                </a:solidFill>
                <a:latin typeface="Times New Roman"/>
              </a:rPr>
              <a:t> raised by the financial crisis: pro-cyclicality of financial statements and possible remedies, i.e. dynamic provisioning; </a:t>
            </a:r>
            <a:endParaRPr b="0" lang="en-US" sz="26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66cc"/>
                </a:solidFill>
                <a:latin typeface="Times New Roman"/>
              </a:rPr>
              <a:t>possible issues for the </a:t>
            </a:r>
            <a:r>
              <a:rPr b="1" lang="en-GB" sz="2600" spc="-1" strike="noStrike">
                <a:solidFill>
                  <a:srgbClr val="0066cc"/>
                </a:solidFill>
                <a:latin typeface="Times New Roman"/>
              </a:rPr>
              <a:t>future direction</a:t>
            </a:r>
            <a:r>
              <a:rPr b="0" lang="en-GB" sz="2600" spc="-1" strike="noStrike">
                <a:solidFill>
                  <a:srgbClr val="0066cc"/>
                </a:solidFill>
                <a:latin typeface="Times New Roman"/>
              </a:rPr>
              <a:t> of financial reporting (broader debate on corporate governance).</a:t>
            </a:r>
            <a:endParaRPr b="0" lang="en-US" sz="26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01A0F-06B6-4BB0-A9FA-824F0CEA5962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Review of the 4</a:t>
            </a:r>
            <a:r>
              <a:rPr b="1" lang="en-GB" sz="3000" spc="-1" strike="noStrike" baseline="30000">
                <a:solidFill>
                  <a:srgbClr val="0066cc"/>
                </a:solidFill>
                <a:latin typeface="Times New Roman"/>
              </a:rPr>
              <a:t>th</a:t>
            </a: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 and 7</a:t>
            </a:r>
            <a:r>
              <a:rPr b="1" lang="en-GB" sz="3000" spc="-1" strike="noStrike" baseline="30000">
                <a:solidFill>
                  <a:srgbClr val="0066cc"/>
                </a:solidFill>
                <a:latin typeface="Times New Roman"/>
              </a:rPr>
              <a:t>th</a:t>
            </a: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 Company Law Directives</a:t>
            </a:r>
            <a:r>
              <a:rPr b="0" lang="ru-RU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26-Feb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 launched a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Consultation on the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Review of the Fourth and Seventh Company Law Directives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Consultation aims at: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raising issues relating to the </a:t>
            </a:r>
            <a:r>
              <a:rPr b="1" lang="en-GB" sz="2500" spc="-1" strike="noStrike">
                <a:solidFill>
                  <a:srgbClr val="0066cc"/>
                </a:solidFill>
                <a:latin typeface="Times New Roman"/>
              </a:rPr>
              <a:t>modernisation and simplification of the Accounting Directives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, 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66cc"/>
                </a:solidFill>
                <a:latin typeface="Times New Roman"/>
              </a:rPr>
              <a:t>increasing the clarity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 </a:t>
            </a:r>
            <a:r>
              <a:rPr b="1" lang="en-GB" sz="2500" spc="-1" strike="noStrike">
                <a:solidFill>
                  <a:srgbClr val="0066cc"/>
                </a:solidFill>
                <a:latin typeface="Times New Roman"/>
              </a:rPr>
              <a:t>of the text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 for lawmakers and users in general.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Consultation closed on 30-Apr-09.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46FE1-F52E-4E2A-8C5B-BF5A784D279A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Equivalence in relation to </a:t>
            </a:r>
            <a:br>
              <a:rPr sz="3000"/>
            </a:b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Third Country GAAPs</a:t>
            </a:r>
            <a:r>
              <a:rPr b="0" lang="ru-RU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12-Dec-08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 adopted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measures granting equivalence to the Generally Accepted Accounting Principles (GAAPs) of certain third countries as from January of 2009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GAAPs of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US, Japan, China, Canada, South Korea and India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 are found to be equivalent to International Financial Reporting Standards (IFRS) as adopted by the EU.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B0972-BC96-4F04-BAFA-255D0D5F9339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cc"/>
                </a:solidFill>
                <a:latin typeface="Times New Roman"/>
              </a:rPr>
              <a:t>Consultation on Possible End-Date for SEPA Migration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66cc"/>
                </a:solidFill>
                <a:uFillTx/>
                <a:latin typeface="Times New Roman"/>
              </a:rPr>
              <a:t>8-Jun-09</a:t>
            </a:r>
            <a:r>
              <a:rPr b="0" lang="en-GB" sz="3200" spc="-1" strike="noStrike">
                <a:solidFill>
                  <a:srgbClr val="0066cc"/>
                </a:solidFill>
                <a:latin typeface="Times New Roman"/>
              </a:rPr>
              <a:t>: </a:t>
            </a:r>
            <a:br>
              <a:rPr sz="3200"/>
            </a:b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EC launched a Consultation on possible deadlines for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migration of existing payment products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 (i.e. credit transfers and direct debits)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to the new SEPA products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Clear deadlines for migration signify that SEPA migration is an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irreversible process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, thus helping to incentivise both industry and users to speed up migration.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Feedback from stakeholders invited by 3-Aug-09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46AAA-158A-497C-A8C4-85DBBE3CAA1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Burden Reduction </a:t>
            </a:r>
            <a:br>
              <a:rPr sz="3000"/>
            </a:b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for Micro Entities</a:t>
            </a:r>
            <a:r>
              <a:rPr b="0" lang="ru-RU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26-Feb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put forward a new proposal allowing MSs to completely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abolish financial reporting obligations for the EU's smallest companies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The aggregate administrative burden reduction potential is estimated at around € 6.3 billion.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Micro entities fulfil two out of the three following criteria: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spcAft>
                <a:spcPts val="550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66cc"/>
                </a:solidFill>
                <a:latin typeface="Times New Roman"/>
              </a:rPr>
              <a:t>balance sheet total of EUR 500.000, </a:t>
            </a: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spcAft>
                <a:spcPts val="550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66cc"/>
                </a:solidFill>
                <a:latin typeface="Times New Roman"/>
              </a:rPr>
              <a:t>net turnover of EUR 1.000.000 and </a:t>
            </a: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spcAft>
                <a:spcPts val="550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66cc"/>
                </a:solidFill>
                <a:latin typeface="Times New Roman"/>
              </a:rPr>
              <a:t>an average number of employees during the financial year of 10.</a:t>
            </a: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12820-48B4-4CE7-A1DC-7418EA25E902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5cad"/>
                </a:solidFill>
                <a:latin typeface="Times New Roman"/>
              </a:rPr>
              <a:t>Thank you for your attention!</a:t>
            </a:r>
            <a:endParaRPr b="0" lang="en-US" sz="3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7AAD7-7196-40EE-B26E-E086E6A481E5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E-money and </a:t>
            </a:r>
            <a:br>
              <a:rPr sz="3000"/>
            </a:b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Cross-Border Payments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66cc"/>
                </a:solidFill>
                <a:uFillTx/>
                <a:latin typeface="Times New Roman"/>
              </a:rPr>
              <a:t>24-Apr-09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28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P adopted t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wo legislative proposals: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spcAft>
                <a:spcPts val="675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66cc"/>
                </a:solidFill>
                <a:latin typeface="Times New Roman"/>
              </a:rPr>
              <a:t>the current rules governing </a:t>
            </a:r>
            <a:r>
              <a:rPr b="1" lang="en-GB" sz="2700" spc="-1" strike="noStrike">
                <a:solidFill>
                  <a:srgbClr val="0066cc"/>
                </a:solidFill>
                <a:latin typeface="Times New Roman"/>
              </a:rPr>
              <a:t>cross-border payments</a:t>
            </a:r>
            <a:r>
              <a:rPr b="0" lang="en-GB" sz="2700" spc="-1" strike="noStrike">
                <a:solidFill>
                  <a:srgbClr val="0066cc"/>
                </a:solidFill>
                <a:latin typeface="Times New Roman"/>
              </a:rPr>
              <a:t>: the Regulation will apply as of 1-Nov-09, the final deadline for the transposition of the Payment Services Directive.</a:t>
            </a:r>
            <a:endParaRPr b="0" lang="en-US" sz="27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spcAft>
                <a:spcPts val="675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66cc"/>
                </a:solidFill>
                <a:latin typeface="Times New Roman"/>
              </a:rPr>
              <a:t>the conditions for issuing </a:t>
            </a:r>
            <a:r>
              <a:rPr b="1" lang="en-GB" sz="2700" spc="-1" strike="noStrike">
                <a:solidFill>
                  <a:srgbClr val="0066cc"/>
                </a:solidFill>
                <a:latin typeface="Times New Roman"/>
              </a:rPr>
              <a:t>electronic money</a:t>
            </a:r>
            <a:r>
              <a:rPr b="0" lang="en-GB" sz="2700" spc="-1" strike="noStrike">
                <a:solidFill>
                  <a:srgbClr val="0066cc"/>
                </a:solidFill>
                <a:latin typeface="Times New Roman"/>
              </a:rPr>
              <a:t> in the EU: Directive to be transposed by 2011 at the latest.</a:t>
            </a:r>
            <a:endParaRPr b="0" lang="en-US" sz="27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Both legal texts will now be forwarded to the EU Council for final adoption.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FE290-0FB5-4FAA-9008-AB33B1ECFC0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Payment Systems </a:t>
            </a:r>
            <a:br>
              <a:rPr sz="3000"/>
            </a:b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Market Expert Group (PSMEG)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20-Apr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EC set up a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PSMEG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 (of 50 members) to assist in the preparation of policy in the field of payments.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Group’s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mission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assist the Commission in the preparation of legislative acts or policy initiatives on payment systems; 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provide insight on the practical implementation of these policies; 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exchange views on the latest best practices; and 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ensure monitoring of potential issues of concern to the market.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5B421-6EFC-4483-8AFD-2CFE1B3DECF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Removing Barriers to </a:t>
            </a:r>
            <a:br>
              <a:rPr sz="3000"/>
            </a:b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Electronic Invoicing</a:t>
            </a: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5-Feb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Expert Group on Electronic Invoicing published its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interim report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, which sets out a vision for a European Electronic Invoicing (EEI) Framework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Report outlines a number of </a:t>
            </a:r>
            <a:r>
              <a:rPr b="1" lang="en-GB" sz="2500" spc="-1" strike="noStrike">
                <a:solidFill>
                  <a:srgbClr val="0066cc"/>
                </a:solidFill>
                <a:latin typeface="Times New Roman"/>
              </a:rPr>
              <a:t>barriers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 to e-invoicing, the electronic transfer of billing and payment information between supplier and buyer.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Group plans to draft a </a:t>
            </a:r>
            <a:r>
              <a:rPr b="1" lang="en-GB" sz="2500" spc="-1" strike="noStrike">
                <a:solidFill>
                  <a:srgbClr val="0066cc"/>
                </a:solidFill>
                <a:latin typeface="Times New Roman"/>
              </a:rPr>
              <a:t>code of practice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 for the guidance of trading parties, their service providers and tax authorities and to develop a </a:t>
            </a:r>
            <a:r>
              <a:rPr b="1" lang="en-GB" sz="2500" spc="-1" strike="noStrike">
                <a:solidFill>
                  <a:srgbClr val="0066cc"/>
                </a:solidFill>
                <a:latin typeface="Times New Roman"/>
              </a:rPr>
              <a:t>network model 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which supports interoperability, choice of services, and European reach for the exchange of invoices.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C2C19-9A44-476B-9840-B40429F5958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Deposit Guarantee Schemes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29-May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 launched a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Consultation reviewing the Directive on Deposit Guarantee Schemes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The aim is to: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ensure greater effectiveness of the Directive, 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respond adequately to any deficiencies or risks as evidenced in the current financial crisis.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Consultation closes on 27-Jul-09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EC will submit a report, and if appropriate, legislative proposals by the end of 2009.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4C20D-F2A1-443F-93AE-D8F14A3536C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Financial Supervision in Europe</a:t>
            </a: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25-Feb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High-Level group on Supervision in the EU published the De Larosière report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10-Apr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 launched a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Consultation on the improvement of supervision for the financial services sector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.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7-May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EC held a High Level Conference “Towards a new supervisory architecture in Europe”.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9BF35-42AA-4B7D-925C-79332AD49C9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0T14:54:20Z</dcterms:created>
  <dc:creator>proskurovska</dc:creator>
  <dc:description/>
  <dc:language>en-US</dc:language>
  <cp:lastModifiedBy>proskurovska</cp:lastModifiedBy>
  <dcterms:modified xsi:type="dcterms:W3CDTF">2009-06-17T10:00:09Z</dcterms:modified>
  <cp:revision>163</cp:revision>
  <dc:subject/>
  <dc:title>Latest developments in the EU legislation on financial services</dc:title>
</cp:coreProperties>
</file>